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AC4A-D034-4870-8E78-620DF8D4A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F4EF-F97D-4758-A8B1-6938D104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A3C-B298-418D-A097-5189F6BE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3CB-C6AA-41D9-B70A-6A1B549E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B1B-0155-4ECC-8C1A-BF1B4D6E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B69-672B-4404-BBB1-FFB74A00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8DB-98D1-4278-991E-4BF0C90A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D04-693A-4360-A5B7-1604EB8E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597-B7D8-40C2-8B39-E93E1B04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2F3-E3C3-4741-9B36-E1AEEC61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F9E-B0D5-49ED-9012-152272BC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D60-C93C-42DC-842B-60FD41BA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B1B-5CE6-49EA-913A-629FAF9A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285-ED82-47FD-AEB9-E61CDB9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F538-3F05-47EC-9A75-F32D57D50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nica Tenec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. Me llamo Monica y tengo 14 años. Tengo dos hermanos y una hermana y vivemos en astoria, Queens. Yo soy Alegre, simpatica, linda  inteligente. Me gusta diviterme much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9"/>
          <p:cNvSpPr/>
          <p:nvPr/>
        </p:nvSpPr>
        <p:spPr>
          <a:xfrm>
            <a:off x="152280" y="685800"/>
            <a:ext cx="155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4"/>
          <p:cNvSpPr/>
          <p:nvPr/>
        </p:nvSpPr>
        <p:spPr>
          <a:xfrm>
            <a:off x="228600" y="1066680"/>
            <a:ext cx="132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6" descr="20204_393328290743197_1698626473_n.jpg"/>
          <p:cNvPicPr/>
          <p:nvPr/>
        </p:nvPicPr>
        <p:blipFill>
          <a:blip r:embed="rId12"/>
          <a:stretch/>
        </p:blipFill>
        <p:spPr>
          <a:xfrm>
            <a:off x="152280" y="914400"/>
            <a:ext cx="1625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00:37Z</dcterms:created>
  <dc:creator>FriscoISD</dc:creator>
  <dc:description/>
  <dc:language>en-US</dc:language>
  <cp:lastModifiedBy>NYCDOE</cp:lastModifiedBy>
  <dcterms:modified xsi:type="dcterms:W3CDTF">2012-12-03T14:14:53Z</dcterms:modified>
  <cp:revision>100</cp:revision>
  <dc:subject/>
  <dc:title>Profile</dc:title>
</cp:coreProperties>
</file>